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hammer.wav" ContentType="audio/x-wav"/>
  <Override PartName="/ppt/media/image12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86B-6606-4C14-9A56-BA39D3EB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62D-90AA-412D-9447-E1AB6F9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C6F82-646C-4641-B52E-749B7D8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7905D-7427-47F8-89F5-E2B51A98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88BCC-1682-46C9-A114-C752063E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6F205-D64A-47B6-BE48-B376187F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A974F-9907-46D0-8046-01DDB137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09CE0-33BA-4DDC-A38B-0C89438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33D5A-4FD7-474C-B7A0-01EBC537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A0AD6-7B26-45B0-81C9-6C471A79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4F814-E1F0-4932-9B7E-E412C6AE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DACFD-C035-43A0-8E45-2903493E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E40-2D72-42E3-8506-5111CDC9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FD19E-D868-4667-B397-41C819E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24C83-54C4-4EBD-80CE-6357D75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DEAF0-689E-4E0F-B008-4BDE8168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C8652-E996-412D-8EF0-8D58D6F8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A3C11-238A-4586-B1D2-425D75D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89D1A-FF66-4798-B447-27319EA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9255A-4408-474F-B1F3-9A7542EC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BF29F-27F5-47E3-8350-A878F23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DD362-7435-47D2-A026-69A52A0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0E06B-E355-4AF7-8995-A2579767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354-CC5C-4F96-95EF-5244FF3B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426CD-BCA7-43AE-9D5F-E7F2D114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34CB31-09C9-49EC-9038-A62C5864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21C856-F903-4283-876C-0680897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B24C3B-C176-4075-AE9A-552CF846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3D284A-FE8E-4E81-BA13-D88E420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CB08C-02A3-428E-A4A6-EEFDE15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27F870-A0B1-43D1-837D-699038E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4B2480-94F3-4EDB-9BC7-3E482FA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9E996F-E4C1-415A-8C31-E5FEE2F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508041-825E-4856-858A-4738417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F1D-9DFA-441C-8D2F-546B223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E645FE-1923-4B3A-BDF1-F897401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701191-9239-4C48-9B0D-6219D11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1FABAE-7EC7-478B-9759-7D5741D5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67019-9B21-4841-ADF9-700BD2E8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139CD-A660-4229-B45E-1D0387B3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70F58-E586-4119-BAB1-D254826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08CA7-0109-4E1E-BE2B-F4BD602D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26810-C895-437C-921F-CC0FEF6D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F9EB5-09C3-4E95-89A1-BDAF350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B3E19-3ADC-42BD-AD25-E779C32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F61E-FEE4-439D-BA88-0250B438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BAB3E-D4A5-4439-9437-17AD7DF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9EF64-9FE2-41B9-B71D-BD28AB3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0DF55-E186-4CFF-AD38-F79F2E02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95100-1AF1-4C7C-A6D7-5921562B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9B198-6B03-44C3-A343-72FD0AD0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28732F-6541-4C30-8AFD-3D3964C5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7EC049-2E5B-48DB-83F2-447C478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98FD38-3BAC-4B77-9C2F-D4573B4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878ACE-8515-4376-9A38-A20D860D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BE076E-E678-4D1F-81D0-E4A5A79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607F-B3CB-4016-A030-7B80629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9659DC-AC7F-46F6-BB22-E4C0803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053832-A185-4C0A-89C0-48E270F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801664-51FE-4E0E-A967-14DAD892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815D84-3D5A-4AF3-972F-45EAB6C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BAEF25-2666-4B59-9A2C-7309535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685B68-B316-429A-939C-682512B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C260BE-6CBB-4FB1-9D2B-30C2DAEE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1A0B2A-602A-4232-A568-63818FF9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638095-9EA9-4DF1-B12A-A6A807C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8E9088-08BB-49CB-A500-2410FE9C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962-7266-4C4B-B13C-E763A86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C71598-528E-4E2E-BF3F-652C74F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AD8C4F-5C60-44E7-86A5-579D482B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0BB280-4A7C-4A07-B3C9-32F38ED2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BB3484-CE5C-4FBF-817B-738F4B8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B97598-12F3-4BC4-B29E-7F775EA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B6B0E2-47F7-4ABE-89DA-525E692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11EBC4-76CA-4D64-80E4-270CB53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5F80BF-CA9A-4B2F-97A8-DC19F6EE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1FC5BA-6DEA-48A8-ACAD-BAF2B21E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6AEC7A-9884-4DCC-A82C-5582DAEA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B977-ED93-4329-A64C-A8E8D4E5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DC0828-BFFA-4A96-ACBF-F8F9E33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4A9127-9B68-409B-8160-1D74B79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5E5354-A547-4E49-81D7-0F6D2FE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A46C08-C534-4071-9AD8-C2D5C76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466F85-F7B1-46CA-8825-AFADF19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91B407-4784-4148-9DBE-19C7C81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530D9D-AD0E-41B5-B5FF-38C035CD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4A0B11-D681-49E4-819E-5969AC8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187569-F357-405E-8619-921E9B9C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DFE900-FDE1-4668-952C-6EFFDCC2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BF0-B6D9-44AF-BD96-0E3FA367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C82FAE-3D7D-4451-809A-A9E93D8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37C3B6-EDEA-4C31-9213-4800E646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6E6A56-79A2-4CD4-A7CB-5B382D3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048174-47FA-4ED9-AD80-4CAA61C6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030FAF-143C-4A0B-B022-0C8AFBF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F43604-88A0-468D-85CA-3D5178C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0E1246-25AC-42C8-A31B-5EEE86E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B2CD93-7964-4203-A179-2E917BCB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FF7E63-9BCF-4400-AEDB-3FDC8E5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1DC133-8A02-495C-8848-355CCF4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8BCF-C2A1-4252-ABD2-3E290FC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067747-DB1C-4950-8C9F-5BAECE2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75F79A-B48C-41FE-9767-7AA8D93B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FDBA4C-450A-4E85-9CA9-70550F1D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A76DED-3987-48AC-8958-AD198B52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00A9F4-26EB-4A3C-800B-973B249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17EA69-1639-4E9A-AFF8-4CEC6AB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A0E1A0-AD28-4989-B696-DCBF62B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66A689-0520-4667-873A-1C77823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74216D-2502-42AA-A011-A666AD0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C77318-A011-4C7F-83BC-F8DB4F6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A9C-A073-41AF-90CE-62CE11B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B69E-3B26-4621-8951-D9B1323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725B02-5A6A-47C3-B2EB-D720ED4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75CBC8-5A3F-4F5B-8BD8-04C2AAB8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49F639-CA51-4BB7-8AD3-9DB96C4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92612A-A6B1-46D7-A738-05963981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C0F9BC-C507-4597-A419-04A8E9AD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4F4-BDF2-4A58-A075-F96329E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26D7-E027-4949-8CDB-3AE1E80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80D-68C6-4471-886E-5ECCCFC2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CE3E-C0F5-4967-A9B4-FAAE1275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1B71-081D-47BF-ACA6-A3F7A75A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D920-D3E4-476B-A51D-FAAC3FC4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6512-FB63-4EDC-A9A6-CD6F4752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3F28-9253-4E7C-9931-94F55493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FA08-6258-42BD-AEBB-919D172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4EB-D5D4-4B52-98B2-E50FA9C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4870-8499-40D0-ACE6-2E2C1AC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D7BA-A64A-4C77-8245-D25FDB6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B166-D4E3-4D2E-95FF-89B3E71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B234-B5CD-492E-BA24-CCC13B21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465B-D4A3-49D0-A4C8-98FEA61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68E6-704E-4AE5-B2B4-265B2809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E3F3-A483-4392-BE5A-6F0EB1C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D9FC-4A93-4209-8E3B-4CC60DDD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5B71-B504-4188-82BB-328D854B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CEDC-4133-4138-BB77-57FBA45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7B5-7418-47C9-BB02-7F419EC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1530-B88A-4367-83FE-3BB7ECC1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AEC5-CA24-4E78-90FE-0C111C2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1DF8-A3B4-4690-ACD1-3A2C8A40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8E1C-DCFF-4952-B6AE-D4DA774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B894-89EC-448B-B41E-F10ABCF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4D2C-0CFC-4BE0-923B-AAF9E65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FF2F-D8AE-4E95-8E80-BD0054D8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1A56-5E64-4E92-8550-CD30F6CD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A9AF-C0FD-47FE-8083-2FD080EE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4E27-C2E7-4EF2-985F-89218954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79D-B54F-4936-B0FF-FB5E23DB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881B-4177-48D9-94B0-3C30C3D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300B-C4FC-4E5C-9E6C-3212656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48345-8860-42F0-BADC-B01102B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71C6-7A56-49D8-AFA6-F73BB22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3173-B881-47D7-982A-BBB29B1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80CF-6771-40AC-90BA-592DDB5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4624-3658-4850-9A0C-22C8436B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DBEF-4F40-41B9-A3C8-4EE1348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A97B-A4A3-49A1-971B-029B9F35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2C6C-705D-46D6-B495-5699E9CF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B7D-0B47-4B0E-A7A9-AAF17C5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76E97-47EE-4007-8705-52D930B3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061920-5171-4DCF-9F61-BA1E515341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4D0B3-7992-491A-9D6A-66E0A89698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E74A3-AE16-4734-98CD-F84FAC0AE2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2CB3E-DE4C-4427-A417-F9FB37C1A73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0AC25-1BD0-465D-B333-6EAC877F84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E6989-C0EF-447E-AB8F-A6B6BA030F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1BDE2-9590-4004-80C1-7BAE1856FF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417D5-F223-4C53-9451-7DF3536094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9ADFB-F2CB-4123-8ECB-56DABF42A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EE8-7300-45FD-8444-1AFDDD09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128285-3852-4EEC-95DB-8FF1AE5507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A139E-55A9-4887-A5E8-93453616C7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F4489-ACD2-49B6-A02A-5860BC69A2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72B69-3E6B-4183-9150-6B7192AB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C1141-1A88-4B3C-806D-87C4F8F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69288-5008-4CD5-9CE1-FA35613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7D3CE-B265-4CCD-971A-588920E3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85A14F-120C-4F06-9A80-CE6958F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C0487-11D6-4E85-9631-DD25BFA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41CEF2-81CD-46F9-8DCF-27060AF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FC9-18D0-4F77-B72A-65F98CA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7A323B-105B-46A4-8452-837A04B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C281E-C8F1-425F-A0B1-443AB02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276F9-695A-49FC-BD51-F47059C4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89EFA-301B-400B-A740-4F5EB428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9F211-FCCB-445F-9989-8B603BC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1AD47F-1526-4856-95F8-50876B7A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C4D68-0D95-4BF4-B191-0AF23E8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F54763-D638-4733-B26C-C3DF928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81F8C-02AD-4E14-AD22-79072F6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7E0F0-A89B-48BF-965A-F3E4636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B1F-382D-4164-B11F-91CC5DE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2B715-E26A-4978-8B0A-EAE3002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9CBE8-1854-4816-85FA-D32C391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435B6C-8584-476B-A20B-CB998F1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7526A-8587-4415-80C4-96BF6C48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BCECD-4D5C-44C5-A6CA-65D0CA2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9DAC3B-E2D3-4F11-B0E7-250F2BA9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0FDC3-03D6-469E-8061-76BB21DA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B7379-8DA2-4364-889C-8B51930C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C1125-F39E-4D6B-BF5C-A225752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BA921-AB97-48B6-8597-8448A881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9991-6F0F-4DC8-90B6-7AA3DC83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043-772A-4EAA-8B4A-8BE6E53CB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4177-B24C-4BAD-B8C3-BDC5576F9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11B8-1744-4E65-841B-CE30716C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1EC-2905-4F63-AFA1-5614EDAC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FA01-0CE7-4BBF-B6B0-FB91849B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B086-7FCE-4A72-BE8A-2916A2B2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344-1189-44DD-AFCA-D050B8AF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3BAA-7B07-4162-B80E-FA415BB74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4F9-33F6-410F-A8E7-673B6D439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7C8-5FC6-4FE0-8BEB-377EAFCC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8B94-2953-4D1E-89C3-86DB9A5D3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pj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0A2-E448-425F-B78D-31356C44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6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FA2075-849F-4E05-AFE7-FE15AAE072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B1E-8DF3-44A2-8D77-61A1271F7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A57-6851-49C9-A7E1-D1603C3EB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A8F-3261-4BA3-906B-CDB8B498C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7.jpeg"/><Relationship Id="rId7" Type="http://schemas.openxmlformats.org/officeDocument/2006/relationships/image" Target="../media/image10.jpeg"/><Relationship Id="rId8" Type="http://schemas.openxmlformats.org/officeDocument/2006/relationships/image" Target="../media/image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位置的确定（十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15" descr="图片1"/>
          <p:cNvPicPr/>
          <p:nvPr/>
        </p:nvPicPr>
        <p:blipFill>
          <a:blip r:embed="rId1"/>
          <a:stretch/>
        </p:blipFill>
        <p:spPr>
          <a:xfrm>
            <a:off x="703440" y="4592520"/>
            <a:ext cx="1606320" cy="1562040"/>
          </a:xfrm>
          <a:prstGeom prst="rect">
            <a:avLst/>
          </a:prstGeom>
          <a:ln w="0">
            <a:noFill/>
          </a:ln>
        </p:spPr>
      </p:pic>
      <p:grpSp>
        <p:nvGrpSpPr>
          <p:cNvPr id="698" name="Group 18"/>
          <p:cNvGrpSpPr/>
          <p:nvPr/>
        </p:nvGrpSpPr>
        <p:grpSpPr>
          <a:xfrm>
            <a:off x="406440" y="797040"/>
            <a:ext cx="3685680" cy="3525480"/>
            <a:chOff x="406440" y="797040"/>
            <a:chExt cx="3685680" cy="3525480"/>
          </a:xfrm>
        </p:grpSpPr>
        <p:sp>
          <p:nvSpPr>
            <p:cNvPr id="699" name="Line 19"/>
            <p:cNvSpPr/>
            <p:nvPr/>
          </p:nvSpPr>
          <p:spPr>
            <a:xfrm>
              <a:off x="891720" y="2535480"/>
              <a:ext cx="2850480" cy="10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0"/>
            <p:cNvSpPr/>
            <p:nvPr/>
          </p:nvSpPr>
          <p:spPr>
            <a:xfrm flipV="1">
              <a:off x="2253960" y="1172880"/>
              <a:ext cx="0" cy="27615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1"/>
            <p:cNvSpPr/>
            <p:nvPr/>
          </p:nvSpPr>
          <p:spPr>
            <a:xfrm>
              <a:off x="3651120" y="23133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2"/>
            <p:cNvSpPr/>
            <p:nvPr/>
          </p:nvSpPr>
          <p:spPr>
            <a:xfrm>
              <a:off x="2003400" y="3801960"/>
              <a:ext cx="4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3"/>
            <p:cNvSpPr/>
            <p:nvPr/>
          </p:nvSpPr>
          <p:spPr>
            <a:xfrm>
              <a:off x="406440" y="2305440"/>
              <a:ext cx="3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24"/>
            <p:cNvSpPr/>
            <p:nvPr/>
          </p:nvSpPr>
          <p:spPr>
            <a:xfrm>
              <a:off x="2016360" y="79704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5"/>
            <p:cNvSpPr/>
            <p:nvPr/>
          </p:nvSpPr>
          <p:spPr>
            <a:xfrm>
              <a:off x="2193840" y="2463840"/>
              <a:ext cx="131400" cy="120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 Box 27"/>
          <p:cNvSpPr/>
          <p:nvPr/>
        </p:nvSpPr>
        <p:spPr>
          <a:xfrm>
            <a:off x="857880" y="1141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3087720" y="993600"/>
            <a:ext cx="49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宝藏在船所在中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北偏东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的方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9457 C 0.04288 -0.03838 0.08628 0.0185 0.1309 0.02543 C 0.17569 0.03306 0.27222 -0.0222 0.26875 -0.05642 C 0.26527 -0.09226 0.14288 -0.16254 0.11093 -0.1889 C 0.07916 -0.2148 0.08767 -0.19237 0.07777 -0.21156 C 0.06771 -0.23098 0.0592 -0.26682 0.05104 -0.30104 E">
                                      <p:cBhvr>
                                        <p:cTn id="6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8"/>
          <p:cNvSpPr/>
          <p:nvPr/>
        </p:nvSpPr>
        <p:spPr>
          <a:xfrm flipH="1" flipV="1">
            <a:off x="3527280" y="1653840"/>
            <a:ext cx="14400" cy="267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rc 16"/>
          <p:cNvSpPr/>
          <p:nvPr/>
        </p:nvSpPr>
        <p:spPr>
          <a:xfrm>
            <a:off x="3541680" y="3745080"/>
            <a:ext cx="216000" cy="174600"/>
          </a:xfrm>
          <a:custGeom>
            <a:avLst/>
            <a:gdLst>
              <a:gd name="textAreaLeft" fmla="*/ 0 w 216000"/>
              <a:gd name="textAreaRight" fmla="*/ 216360 w 216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3501720" y="32749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r>
              <a:rPr b="1" lang="en-US" sz="20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3236760" y="1392120"/>
            <a:ext cx="652680" cy="347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3278160" y="6667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3"/>
          <p:cNvSpPr/>
          <p:nvPr/>
        </p:nvSpPr>
        <p:spPr>
          <a:xfrm>
            <a:off x="3003480" y="4324320"/>
            <a:ext cx="11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轮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4"/>
          <p:cNvSpPr/>
          <p:nvPr/>
        </p:nvSpPr>
        <p:spPr>
          <a:xfrm>
            <a:off x="471996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宝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97"/>
          <p:cNvGrpSpPr/>
          <p:nvPr/>
        </p:nvGrpSpPr>
        <p:grpSpPr>
          <a:xfrm>
            <a:off x="5194800" y="4100400"/>
            <a:ext cx="3607200" cy="544320"/>
            <a:chOff x="5194800" y="4100400"/>
            <a:chExt cx="3607200" cy="544320"/>
          </a:xfrm>
        </p:grpSpPr>
        <p:sp>
          <p:nvSpPr>
            <p:cNvPr id="716" name="Line 89"/>
            <p:cNvSpPr/>
            <p:nvPr/>
          </p:nvSpPr>
          <p:spPr>
            <a:xfrm>
              <a:off x="5319360" y="4644720"/>
              <a:ext cx="26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96"/>
            <p:cNvGrpSpPr/>
            <p:nvPr/>
          </p:nvGrpSpPr>
          <p:grpSpPr>
            <a:xfrm>
              <a:off x="5194800" y="4100400"/>
              <a:ext cx="3607200" cy="543960"/>
              <a:chOff x="5194800" y="4100400"/>
              <a:chExt cx="3607200" cy="543960"/>
            </a:xfrm>
          </p:grpSpPr>
          <p:sp>
            <p:nvSpPr>
              <p:cNvPr id="718" name="Text Box 44"/>
              <p:cNvSpPr/>
              <p:nvPr/>
            </p:nvSpPr>
            <p:spPr>
              <a:xfrm>
                <a:off x="5194800" y="4119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53"/>
              <p:cNvSpPr/>
              <p:nvPr/>
            </p:nvSpPr>
            <p:spPr>
              <a:xfrm>
                <a:off x="7931160" y="4120920"/>
                <a:ext cx="87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55"/>
              <p:cNvSpPr/>
              <p:nvPr/>
            </p:nvSpPr>
            <p:spPr>
              <a:xfrm>
                <a:off x="6484680" y="411768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57"/>
              <p:cNvSpPr/>
              <p:nvPr/>
            </p:nvSpPr>
            <p:spPr>
              <a:xfrm>
                <a:off x="5844960" y="4117680"/>
                <a:ext cx="35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90"/>
              <p:cNvSpPr/>
              <p:nvPr/>
            </p:nvSpPr>
            <p:spPr>
              <a:xfrm flipV="1">
                <a:off x="5332320" y="4485600"/>
                <a:ext cx="0" cy="15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91"/>
              <p:cNvSpPr/>
              <p:nvPr/>
            </p:nvSpPr>
            <p:spPr>
              <a:xfrm flipV="1">
                <a:off x="6001920" y="4528800"/>
                <a:ext cx="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92"/>
              <p:cNvSpPr/>
              <p:nvPr/>
            </p:nvSpPr>
            <p:spPr>
              <a:xfrm flipV="1">
                <a:off x="66560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93"/>
              <p:cNvSpPr/>
              <p:nvPr/>
            </p:nvSpPr>
            <p:spPr>
              <a:xfrm flipV="1">
                <a:off x="7314840" y="451440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4"/>
              <p:cNvSpPr/>
              <p:nvPr/>
            </p:nvSpPr>
            <p:spPr>
              <a:xfrm flipV="1">
                <a:off x="79736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95"/>
              <p:cNvSpPr/>
              <p:nvPr/>
            </p:nvSpPr>
            <p:spPr>
              <a:xfrm>
                <a:off x="7151400" y="410040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8" name="Picture 98" descr="图片19"/>
          <p:cNvPicPr/>
          <p:nvPr/>
        </p:nvPicPr>
        <p:blipFill>
          <a:blip r:embed="rId1"/>
          <a:stretch/>
        </p:blipFill>
        <p:spPr>
          <a:xfrm rot="1786200">
            <a:off x="3858840" y="808200"/>
            <a:ext cx="623880" cy="3625560"/>
          </a:xfrm>
          <a:prstGeom prst="rect">
            <a:avLst/>
          </a:prstGeom>
          <a:ln w="0">
            <a:noFill/>
          </a:ln>
        </p:spPr>
      </p:pic>
      <p:sp>
        <p:nvSpPr>
          <p:cNvPr id="729" name="Line 101"/>
          <p:cNvSpPr/>
          <p:nvPr/>
        </p:nvSpPr>
        <p:spPr>
          <a:xfrm flipV="1">
            <a:off x="3554280" y="2585880"/>
            <a:ext cx="986040" cy="171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3"/>
          <p:cNvSpPr/>
          <p:nvPr/>
        </p:nvSpPr>
        <p:spPr>
          <a:xfrm>
            <a:off x="1955520" y="5030640"/>
            <a:ext cx="47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从上图看，宝藏在轮船的北偏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30</a:t>
            </a:r>
            <a:r>
              <a:rPr b="1" lang="en-US" sz="3200" spc="-1" strike="noStrike" baseline="30000">
                <a:solidFill>
                  <a:srgbClr val="3333ff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上，实际距离是（   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4"/>
          <p:cNvSpPr/>
          <p:nvPr/>
        </p:nvSpPr>
        <p:spPr>
          <a:xfrm>
            <a:off x="6771240" y="503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6"/>
          <p:cNvSpPr/>
          <p:nvPr/>
        </p:nvSpPr>
        <p:spPr>
          <a:xfrm>
            <a:off x="5893920" y="550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8"/>
          <p:cNvSpPr/>
          <p:nvPr/>
        </p:nvSpPr>
        <p:spPr>
          <a:xfrm>
            <a:off x="1292400" y="1486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09"/>
          <p:cNvSpPr/>
          <p:nvPr/>
        </p:nvSpPr>
        <p:spPr>
          <a:xfrm flipH="1" flipV="1">
            <a:off x="4485600" y="2493360"/>
            <a:ext cx="128520" cy="129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10"/>
          <p:cNvSpPr/>
          <p:nvPr/>
        </p:nvSpPr>
        <p:spPr>
          <a:xfrm>
            <a:off x="3498840" y="4224240"/>
            <a:ext cx="103320" cy="131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1" descr="图片3"/>
          <p:cNvPicPr/>
          <p:nvPr/>
        </p:nvPicPr>
        <p:blipFill>
          <a:blip r:embed="rId2"/>
          <a:stretch/>
        </p:blipFill>
        <p:spPr>
          <a:xfrm>
            <a:off x="5910120" y="1052640"/>
            <a:ext cx="1360800" cy="1828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12"/>
          <p:cNvSpPr/>
          <p:nvPr/>
        </p:nvSpPr>
        <p:spPr>
          <a:xfrm>
            <a:off x="7277040" y="182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勇气的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55"/>
          <p:cNvSpPr/>
          <p:nvPr/>
        </p:nvSpPr>
        <p:spPr>
          <a:xfrm>
            <a:off x="1041480" y="602928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０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 2     3    4     5    6    7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47"/>
          <p:cNvGrpSpPr/>
          <p:nvPr/>
        </p:nvGrpSpPr>
        <p:grpSpPr>
          <a:xfrm>
            <a:off x="863640" y="1989000"/>
            <a:ext cx="4265640" cy="4344480"/>
            <a:chOff x="863640" y="1989000"/>
            <a:chExt cx="4265640" cy="4344480"/>
          </a:xfrm>
        </p:grpSpPr>
        <p:sp>
          <p:nvSpPr>
            <p:cNvPr id="740" name="Line 17"/>
            <p:cNvSpPr/>
            <p:nvPr/>
          </p:nvSpPr>
          <p:spPr>
            <a:xfrm>
              <a:off x="2173320" y="2151000"/>
              <a:ext cx="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"/>
            <p:cNvSpPr/>
            <p:nvPr/>
          </p:nvSpPr>
          <p:spPr>
            <a:xfrm>
              <a:off x="1998720" y="366228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"/>
            <p:cNvSpPr/>
            <p:nvPr/>
          </p:nvSpPr>
          <p:spPr>
            <a:xfrm>
              <a:off x="2646360" y="2205000"/>
              <a:ext cx="9716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4"/>
            <p:cNvSpPr/>
            <p:nvPr/>
          </p:nvSpPr>
          <p:spPr>
            <a:xfrm flipH="1">
              <a:off x="2646000" y="2151000"/>
              <a:ext cx="97164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"/>
            <p:cNvSpPr/>
            <p:nvPr/>
          </p:nvSpPr>
          <p:spPr>
            <a:xfrm flipH="1">
              <a:off x="2646000" y="5173560"/>
              <a:ext cx="97164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"/>
            <p:cNvSpPr/>
            <p:nvPr/>
          </p:nvSpPr>
          <p:spPr>
            <a:xfrm>
              <a:off x="2646360" y="5173560"/>
              <a:ext cx="971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1243080" y="2151000"/>
              <a:ext cx="3778200" cy="3886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8"/>
            <p:cNvSpPr/>
            <p:nvPr/>
          </p:nvSpPr>
          <p:spPr>
            <a:xfrm>
              <a:off x="1243080" y="259092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"/>
            <p:cNvSpPr/>
            <p:nvPr/>
          </p:nvSpPr>
          <p:spPr>
            <a:xfrm>
              <a:off x="1243080" y="2965320"/>
              <a:ext cx="377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0"/>
            <p:cNvSpPr/>
            <p:nvPr/>
          </p:nvSpPr>
          <p:spPr>
            <a:xfrm>
              <a:off x="1243080" y="346716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>
              <a:off x="1243080" y="384336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>
              <a:off x="1243080" y="428148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3"/>
            <p:cNvSpPr/>
            <p:nvPr/>
          </p:nvSpPr>
          <p:spPr>
            <a:xfrm>
              <a:off x="1243080" y="4719600"/>
              <a:ext cx="3778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4"/>
            <p:cNvSpPr/>
            <p:nvPr/>
          </p:nvSpPr>
          <p:spPr>
            <a:xfrm>
              <a:off x="1243080" y="515952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5"/>
            <p:cNvSpPr/>
            <p:nvPr/>
          </p:nvSpPr>
          <p:spPr>
            <a:xfrm>
              <a:off x="1243080" y="559764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6"/>
            <p:cNvSpPr/>
            <p:nvPr/>
          </p:nvSpPr>
          <p:spPr>
            <a:xfrm>
              <a:off x="1706400" y="2151000"/>
              <a:ext cx="180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"/>
            <p:cNvSpPr/>
            <p:nvPr/>
          </p:nvSpPr>
          <p:spPr>
            <a:xfrm>
              <a:off x="263844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9"/>
            <p:cNvSpPr/>
            <p:nvPr/>
          </p:nvSpPr>
          <p:spPr>
            <a:xfrm>
              <a:off x="3102120" y="2151000"/>
              <a:ext cx="288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0"/>
            <p:cNvSpPr/>
            <p:nvPr/>
          </p:nvSpPr>
          <p:spPr>
            <a:xfrm>
              <a:off x="362592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1"/>
            <p:cNvSpPr/>
            <p:nvPr/>
          </p:nvSpPr>
          <p:spPr>
            <a:xfrm>
              <a:off x="409104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2"/>
            <p:cNvSpPr/>
            <p:nvPr/>
          </p:nvSpPr>
          <p:spPr>
            <a:xfrm>
              <a:off x="455616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3"/>
            <p:cNvSpPr/>
            <p:nvPr/>
          </p:nvSpPr>
          <p:spPr>
            <a:xfrm>
              <a:off x="455616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4"/>
            <p:cNvSpPr/>
            <p:nvPr/>
          </p:nvSpPr>
          <p:spPr>
            <a:xfrm>
              <a:off x="409104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5"/>
            <p:cNvSpPr/>
            <p:nvPr/>
          </p:nvSpPr>
          <p:spPr>
            <a:xfrm>
              <a:off x="362592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26"/>
            <p:cNvSpPr/>
            <p:nvPr/>
          </p:nvSpPr>
          <p:spPr>
            <a:xfrm>
              <a:off x="3102120" y="4281480"/>
              <a:ext cx="288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7"/>
            <p:cNvSpPr/>
            <p:nvPr/>
          </p:nvSpPr>
          <p:spPr>
            <a:xfrm>
              <a:off x="263844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8"/>
            <p:cNvSpPr/>
            <p:nvPr/>
          </p:nvSpPr>
          <p:spPr>
            <a:xfrm>
              <a:off x="2173320" y="4281480"/>
              <a:ext cx="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9"/>
            <p:cNvSpPr/>
            <p:nvPr/>
          </p:nvSpPr>
          <p:spPr>
            <a:xfrm>
              <a:off x="1706400" y="4281480"/>
              <a:ext cx="180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0"/>
            <p:cNvSpPr/>
            <p:nvPr/>
          </p:nvSpPr>
          <p:spPr>
            <a:xfrm>
              <a:off x="3916440" y="3279600"/>
              <a:ext cx="349200" cy="37476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1"/>
            <p:cNvSpPr/>
            <p:nvPr/>
          </p:nvSpPr>
          <p:spPr>
            <a:xfrm>
              <a:off x="3916440" y="3279600"/>
              <a:ext cx="349200" cy="3747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2"/>
            <p:cNvSpPr/>
            <p:nvPr/>
          </p:nvSpPr>
          <p:spPr>
            <a:xfrm flipH="1" flipV="1" rot="16200000">
              <a:off x="1985040" y="4546080"/>
              <a:ext cx="374760" cy="34776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3"/>
            <p:cNvSpPr/>
            <p:nvPr/>
          </p:nvSpPr>
          <p:spPr>
            <a:xfrm flipH="1" flipV="1" rot="16200000">
              <a:off x="1985040" y="4546080"/>
              <a:ext cx="374760" cy="3477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4"/>
            <p:cNvSpPr/>
            <p:nvPr/>
          </p:nvSpPr>
          <p:spPr>
            <a:xfrm flipH="1" flipV="1" rot="16200000">
              <a:off x="1519200" y="4983480"/>
              <a:ext cx="37764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5"/>
            <p:cNvSpPr/>
            <p:nvPr/>
          </p:nvSpPr>
          <p:spPr>
            <a:xfrm flipH="1" flipV="1" rot="16200000">
              <a:off x="1519200" y="4983480"/>
              <a:ext cx="37764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6"/>
            <p:cNvSpPr/>
            <p:nvPr/>
          </p:nvSpPr>
          <p:spPr>
            <a:xfrm flipH="1" flipV="1" rot="16200000">
              <a:off x="3903480" y="4545360"/>
              <a:ext cx="37476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"/>
            <p:cNvSpPr/>
            <p:nvPr/>
          </p:nvSpPr>
          <p:spPr>
            <a:xfrm flipH="1" flipV="1" rot="16200000">
              <a:off x="4367160" y="4983480"/>
              <a:ext cx="37764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9"/>
            <p:cNvSpPr/>
            <p:nvPr/>
          </p:nvSpPr>
          <p:spPr>
            <a:xfrm flipH="1" flipV="1" rot="16200000">
              <a:off x="4367160" y="4983480"/>
              <a:ext cx="37764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0"/>
            <p:cNvSpPr/>
            <p:nvPr/>
          </p:nvSpPr>
          <p:spPr>
            <a:xfrm>
              <a:off x="1135080" y="279864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1"/>
            <p:cNvSpPr/>
            <p:nvPr/>
          </p:nvSpPr>
          <p:spPr>
            <a:xfrm>
              <a:off x="2970360" y="279864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2"/>
            <p:cNvSpPr/>
            <p:nvPr/>
          </p:nvSpPr>
          <p:spPr>
            <a:xfrm>
              <a:off x="4805280" y="495792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3"/>
            <p:cNvSpPr/>
            <p:nvPr/>
          </p:nvSpPr>
          <p:spPr>
            <a:xfrm>
              <a:off x="2916360" y="3338640"/>
              <a:ext cx="32364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4"/>
            <p:cNvSpPr/>
            <p:nvPr/>
          </p:nvSpPr>
          <p:spPr>
            <a:xfrm>
              <a:off x="2484360" y="506556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5"/>
            <p:cNvSpPr/>
            <p:nvPr/>
          </p:nvSpPr>
          <p:spPr>
            <a:xfrm>
              <a:off x="3456000" y="501156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6"/>
            <p:cNvSpPr/>
            <p:nvPr/>
          </p:nvSpPr>
          <p:spPr>
            <a:xfrm>
              <a:off x="2484360" y="198900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7"/>
            <p:cNvSpPr/>
            <p:nvPr/>
          </p:nvSpPr>
          <p:spPr>
            <a:xfrm>
              <a:off x="2916360" y="544356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"/>
            <p:cNvSpPr/>
            <p:nvPr/>
          </p:nvSpPr>
          <p:spPr>
            <a:xfrm>
              <a:off x="2970360" y="198900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9"/>
            <p:cNvSpPr/>
            <p:nvPr/>
          </p:nvSpPr>
          <p:spPr>
            <a:xfrm>
              <a:off x="3887640" y="409428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50"/>
            <p:cNvSpPr/>
            <p:nvPr/>
          </p:nvSpPr>
          <p:spPr>
            <a:xfrm>
              <a:off x="3941640" y="326232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1"/>
            <p:cNvSpPr/>
            <p:nvPr/>
          </p:nvSpPr>
          <p:spPr>
            <a:xfrm>
              <a:off x="4805280" y="328464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2"/>
            <p:cNvSpPr/>
            <p:nvPr/>
          </p:nvSpPr>
          <p:spPr>
            <a:xfrm>
              <a:off x="3456000" y="582120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56"/>
            <p:cNvSpPr/>
            <p:nvPr/>
          </p:nvSpPr>
          <p:spPr>
            <a:xfrm>
              <a:off x="865080" y="1992240"/>
              <a:ext cx="2700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57"/>
            <p:cNvSpPr/>
            <p:nvPr/>
          </p:nvSpPr>
          <p:spPr>
            <a:xfrm>
              <a:off x="863640" y="4079880"/>
              <a:ext cx="27000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6"/>
            <p:cNvSpPr/>
            <p:nvPr/>
          </p:nvSpPr>
          <p:spPr>
            <a:xfrm flipH="1" flipV="1" rot="16200000">
              <a:off x="3875040" y="4545000"/>
              <a:ext cx="43200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Oval 53"/>
          <p:cNvSpPr/>
          <p:nvPr/>
        </p:nvSpPr>
        <p:spPr>
          <a:xfrm>
            <a:off x="5791320" y="219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4"/>
          <p:cNvSpPr/>
          <p:nvPr/>
        </p:nvSpPr>
        <p:spPr>
          <a:xfrm>
            <a:off x="6248520" y="219060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58"/>
          <p:cNvSpPr/>
          <p:nvPr/>
        </p:nvSpPr>
        <p:spPr>
          <a:xfrm>
            <a:off x="5791320" y="30542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9"/>
          <p:cNvSpPr/>
          <p:nvPr/>
        </p:nvSpPr>
        <p:spPr>
          <a:xfrm>
            <a:off x="6172200" y="30542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1"/>
          <p:cNvSpPr/>
          <p:nvPr/>
        </p:nvSpPr>
        <p:spPr>
          <a:xfrm>
            <a:off x="6132240" y="391968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8"/>
          <p:cNvSpPr/>
          <p:nvPr/>
        </p:nvSpPr>
        <p:spPr>
          <a:xfrm>
            <a:off x="6132240" y="480528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9"/>
          <p:cNvSpPr/>
          <p:nvPr/>
        </p:nvSpPr>
        <p:spPr>
          <a:xfrm>
            <a:off x="5862600" y="485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0"/>
          <p:cNvSpPr/>
          <p:nvPr/>
        </p:nvSpPr>
        <p:spPr>
          <a:xfrm>
            <a:off x="6132240" y="574200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1"/>
          <p:cNvSpPr/>
          <p:nvPr/>
        </p:nvSpPr>
        <p:spPr>
          <a:xfrm>
            <a:off x="7290360" y="7375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72"/>
          <p:cNvSpPr/>
          <p:nvPr/>
        </p:nvSpPr>
        <p:spPr>
          <a:xfrm>
            <a:off x="5862600" y="5791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3"/>
          <p:cNvSpPr/>
          <p:nvPr/>
        </p:nvSpPr>
        <p:spPr>
          <a:xfrm>
            <a:off x="609480" y="6858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规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列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在前面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行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在后面，请把右边的象棋棋子的位置表出来，例：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1"/>
          <p:cNvSpPr/>
          <p:nvPr/>
        </p:nvSpPr>
        <p:spPr>
          <a:xfrm>
            <a:off x="65530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2"/>
          <p:cNvSpPr/>
          <p:nvPr/>
        </p:nvSpPr>
        <p:spPr>
          <a:xfrm>
            <a:off x="6553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3"/>
          <p:cNvSpPr/>
          <p:nvPr/>
        </p:nvSpPr>
        <p:spPr>
          <a:xfrm>
            <a:off x="6477120" y="441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4"/>
          <p:cNvSpPr/>
          <p:nvPr/>
        </p:nvSpPr>
        <p:spPr>
          <a:xfrm>
            <a:off x="647712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85"/>
          <p:cNvSpPr/>
          <p:nvPr/>
        </p:nvSpPr>
        <p:spPr>
          <a:xfrm>
            <a:off x="64771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44"/>
          <p:cNvSpPr/>
          <p:nvPr/>
        </p:nvSpPr>
        <p:spPr>
          <a:xfrm>
            <a:off x="5257800" y="1143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5"/>
          <p:cNvSpPr/>
          <p:nvPr/>
        </p:nvSpPr>
        <p:spPr>
          <a:xfrm>
            <a:off x="5600880" y="113184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46"/>
          <p:cNvSpPr/>
          <p:nvPr/>
        </p:nvSpPr>
        <p:spPr>
          <a:xfrm>
            <a:off x="5759280" y="400536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71280" y="1159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量角器和直尺找出各种动物相对于大象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2" descr="5"/>
          <p:cNvPicPr/>
          <p:nvPr/>
        </p:nvPicPr>
        <p:blipFill>
          <a:blip r:embed="rId1"/>
          <a:stretch/>
        </p:blipFill>
        <p:spPr>
          <a:xfrm>
            <a:off x="2616120" y="4941720"/>
            <a:ext cx="1381320" cy="863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3" descr="1"/>
          <p:cNvPicPr/>
          <p:nvPr/>
        </p:nvPicPr>
        <p:blipFill>
          <a:blip r:embed="rId2"/>
          <a:stretch/>
        </p:blipFill>
        <p:spPr>
          <a:xfrm>
            <a:off x="469800" y="1413000"/>
            <a:ext cx="1084320" cy="86364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4" descr="2"/>
          <p:cNvPicPr/>
          <p:nvPr/>
        </p:nvPicPr>
        <p:blipFill>
          <a:blip r:embed="rId3"/>
          <a:stretch/>
        </p:blipFill>
        <p:spPr>
          <a:xfrm>
            <a:off x="36360" y="4941720"/>
            <a:ext cx="1381320" cy="8636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5" descr="3"/>
          <p:cNvPicPr/>
          <p:nvPr/>
        </p:nvPicPr>
        <p:blipFill>
          <a:blip r:embed="rId4"/>
          <a:stretch/>
        </p:blipFill>
        <p:spPr>
          <a:xfrm>
            <a:off x="2701800" y="2997360"/>
            <a:ext cx="1298880" cy="863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6" descr="4"/>
          <p:cNvPicPr/>
          <p:nvPr/>
        </p:nvPicPr>
        <p:blipFill>
          <a:blip r:embed="rId5"/>
          <a:stretch/>
        </p:blipFill>
        <p:spPr>
          <a:xfrm>
            <a:off x="2844720" y="1268280"/>
            <a:ext cx="1235160" cy="863640"/>
          </a:xfrm>
          <a:prstGeom prst="rect">
            <a:avLst/>
          </a:prstGeom>
          <a:ln w="0">
            <a:noFill/>
          </a:ln>
        </p:spPr>
      </p:pic>
      <p:sp>
        <p:nvSpPr>
          <p:cNvPr id="819" name="Line 17"/>
          <p:cNvSpPr/>
          <p:nvPr/>
        </p:nvSpPr>
        <p:spPr>
          <a:xfrm>
            <a:off x="1189080" y="2205000"/>
            <a:ext cx="201600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8"/>
          <p:cNvSpPr/>
          <p:nvPr/>
        </p:nvSpPr>
        <p:spPr>
          <a:xfrm flipV="1">
            <a:off x="1117440" y="2205000"/>
            <a:ext cx="216072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1765440" y="3429000"/>
            <a:ext cx="93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0"/>
          <p:cNvSpPr/>
          <p:nvPr/>
        </p:nvSpPr>
        <p:spPr>
          <a:xfrm flipV="1">
            <a:off x="2197080" y="299700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2125800" y="335772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1189080" y="220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3"/>
          <p:cNvSpPr/>
          <p:nvPr/>
        </p:nvSpPr>
        <p:spPr>
          <a:xfrm>
            <a:off x="3205080" y="220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4"/>
          <p:cNvSpPr/>
          <p:nvPr/>
        </p:nvSpPr>
        <p:spPr>
          <a:xfrm>
            <a:off x="1117440" y="4653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5"/>
          <p:cNvSpPr/>
          <p:nvPr/>
        </p:nvSpPr>
        <p:spPr>
          <a:xfrm>
            <a:off x="3133800" y="4724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26"/>
          <p:cNvSpPr/>
          <p:nvPr/>
        </p:nvSpPr>
        <p:spPr>
          <a:xfrm>
            <a:off x="4067280" y="1197000"/>
            <a:ext cx="358560" cy="12254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7"/>
          <p:cNvSpPr/>
          <p:nvPr/>
        </p:nvSpPr>
        <p:spPr>
          <a:xfrm>
            <a:off x="4068720" y="119556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29"/>
          <p:cNvSpPr/>
          <p:nvPr/>
        </p:nvSpPr>
        <p:spPr>
          <a:xfrm rot="10800000">
            <a:off x="4068360" y="1842840"/>
            <a:ext cx="358920" cy="649080"/>
          </a:xfrm>
          <a:prstGeom prst="triangle">
            <a:avLst>
              <a:gd name="adj" fmla="val 4188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211640" y="83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36"/>
          <p:cNvGrpSpPr/>
          <p:nvPr/>
        </p:nvGrpSpPr>
        <p:grpSpPr>
          <a:xfrm>
            <a:off x="1044720" y="6308280"/>
            <a:ext cx="1441440" cy="144720"/>
            <a:chOff x="1044720" y="6308280"/>
            <a:chExt cx="1441440" cy="144720"/>
          </a:xfrm>
        </p:grpSpPr>
        <p:sp>
          <p:nvSpPr>
            <p:cNvPr id="833" name="Line 31"/>
            <p:cNvSpPr/>
            <p:nvPr/>
          </p:nvSpPr>
          <p:spPr>
            <a:xfrm>
              <a:off x="1044720" y="64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2"/>
            <p:cNvSpPr/>
            <p:nvPr/>
          </p:nvSpPr>
          <p:spPr>
            <a:xfrm flipV="1">
              <a:off x="104472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3"/>
            <p:cNvSpPr/>
            <p:nvPr/>
          </p:nvSpPr>
          <p:spPr>
            <a:xfrm flipV="1">
              <a:off x="176544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4"/>
            <p:cNvSpPr/>
            <p:nvPr/>
          </p:nvSpPr>
          <p:spPr>
            <a:xfrm flipV="1">
              <a:off x="248616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Text Box 35"/>
          <p:cNvSpPr/>
          <p:nvPr/>
        </p:nvSpPr>
        <p:spPr>
          <a:xfrm>
            <a:off x="901800" y="5734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7"/>
          <p:cNvSpPr/>
          <p:nvPr/>
        </p:nvSpPr>
        <p:spPr>
          <a:xfrm>
            <a:off x="1620720" y="57340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8"/>
          <p:cNvSpPr/>
          <p:nvPr/>
        </p:nvSpPr>
        <p:spPr>
          <a:xfrm>
            <a:off x="2197080" y="5718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572000" y="1413000"/>
          <a:ext cx="4356000" cy="48243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452600"/>
              </a:tblGrid>
              <a:tr h="101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距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1" name="Picture 67" descr="1"/>
          <p:cNvPicPr/>
          <p:nvPr/>
        </p:nvPicPr>
        <p:blipFill>
          <a:blip r:embed="rId6"/>
          <a:stretch/>
        </p:blipFill>
        <p:spPr>
          <a:xfrm>
            <a:off x="4714920" y="2492280"/>
            <a:ext cx="1084320" cy="8636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68" descr="4"/>
          <p:cNvPicPr/>
          <p:nvPr/>
        </p:nvPicPr>
        <p:blipFill>
          <a:blip r:embed="rId7"/>
          <a:stretch/>
        </p:blipFill>
        <p:spPr>
          <a:xfrm>
            <a:off x="4643280" y="3429000"/>
            <a:ext cx="1235160" cy="86364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69" descr="2"/>
          <p:cNvPicPr/>
          <p:nvPr/>
        </p:nvPicPr>
        <p:blipFill>
          <a:blip r:embed="rId8"/>
          <a:stretch/>
        </p:blipFill>
        <p:spPr>
          <a:xfrm>
            <a:off x="4643280" y="4417920"/>
            <a:ext cx="1297080" cy="811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0" descr="5"/>
          <p:cNvPicPr/>
          <p:nvPr/>
        </p:nvPicPr>
        <p:blipFill>
          <a:blip r:embed="rId9"/>
          <a:stretch/>
        </p:blipFill>
        <p:spPr>
          <a:xfrm>
            <a:off x="4643280" y="5353200"/>
            <a:ext cx="1297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39"/>
          <p:cNvGrpSpPr/>
          <p:nvPr/>
        </p:nvGrpSpPr>
        <p:grpSpPr>
          <a:xfrm>
            <a:off x="401400" y="2894760"/>
            <a:ext cx="4523040" cy="3273840"/>
            <a:chOff x="401400" y="2894760"/>
            <a:chExt cx="4523040" cy="3273840"/>
          </a:xfrm>
        </p:grpSpPr>
        <p:cxnSp>
          <p:nvCxnSpPr>
            <p:cNvPr id="846" name="AutoShape 48"/>
            <p:cNvCxnSpPr/>
            <p:nvPr/>
          </p:nvCxnSpPr>
          <p:spPr>
            <a:xfrm flipV="1">
              <a:off x="401400" y="6021360"/>
              <a:ext cx="4523400" cy="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AutoShape 47"/>
            <p:cNvCxnSpPr/>
            <p:nvPr/>
          </p:nvCxnSpPr>
          <p:spPr>
            <a:xfrm flipH="1" flipV="1">
              <a:off x="625320" y="2894760"/>
              <a:ext cx="17640" cy="327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Rectangle 46"/>
            <p:cNvSpPr/>
            <p:nvPr/>
          </p:nvSpPr>
          <p:spPr>
            <a:xfrm>
              <a:off x="626040" y="3278160"/>
              <a:ext cx="3214440" cy="27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AutoShape 45"/>
            <p:cNvCxnSpPr/>
            <p:nvPr/>
          </p:nvCxnSpPr>
          <p:spPr>
            <a:xfrm>
              <a:off x="643320" y="3954960"/>
              <a:ext cx="319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0" name="AutoShape 44"/>
            <p:cNvCxnSpPr/>
            <p:nvPr/>
          </p:nvCxnSpPr>
          <p:spPr>
            <a:xfrm>
              <a:off x="625680" y="4634640"/>
              <a:ext cx="3215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AutoShape 43"/>
            <p:cNvCxnSpPr/>
            <p:nvPr/>
          </p:nvCxnSpPr>
          <p:spPr>
            <a:xfrm>
              <a:off x="625680" y="5372640"/>
              <a:ext cx="3215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AutoShape 42"/>
            <p:cNvCxnSpPr/>
            <p:nvPr/>
          </p:nvCxnSpPr>
          <p:spPr>
            <a:xfrm>
              <a:off x="1435680" y="3278160"/>
              <a:ext cx="1080" cy="27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AutoShape 41"/>
            <p:cNvCxnSpPr/>
            <p:nvPr/>
          </p:nvCxnSpPr>
          <p:spPr>
            <a:xfrm>
              <a:off x="2264400" y="3278160"/>
              <a:ext cx="1080" cy="27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AutoShape 40"/>
            <p:cNvCxnSpPr/>
            <p:nvPr/>
          </p:nvCxnSpPr>
          <p:spPr>
            <a:xfrm>
              <a:off x="3041640" y="3277800"/>
              <a:ext cx="1080" cy="274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55" name="Text Box 61"/>
          <p:cNvSpPr/>
          <p:nvPr/>
        </p:nvSpPr>
        <p:spPr>
          <a:xfrm>
            <a:off x="228600" y="281952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4"/>
          <p:cNvSpPr/>
          <p:nvPr/>
        </p:nvSpPr>
        <p:spPr>
          <a:xfrm>
            <a:off x="90792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5"/>
          <p:cNvSpPr/>
          <p:nvPr/>
        </p:nvSpPr>
        <p:spPr>
          <a:xfrm>
            <a:off x="1584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3"/>
          <p:cNvSpPr/>
          <p:nvPr/>
        </p:nvSpPr>
        <p:spPr>
          <a:xfrm>
            <a:off x="1747800" y="604368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519280" y="603252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1"/>
          <p:cNvSpPr/>
          <p:nvPr/>
        </p:nvSpPr>
        <p:spPr>
          <a:xfrm>
            <a:off x="3308400" y="603576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9"/>
          <p:cNvSpPr/>
          <p:nvPr/>
        </p:nvSpPr>
        <p:spPr>
          <a:xfrm>
            <a:off x="4038480" y="5257800"/>
            <a:ext cx="1344600" cy="4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0"/>
          <p:cNvSpPr/>
          <p:nvPr/>
        </p:nvSpPr>
        <p:spPr>
          <a:xfrm>
            <a:off x="424332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62"/>
          <p:cNvSpPr/>
          <p:nvPr/>
        </p:nvSpPr>
        <p:spPr>
          <a:xfrm>
            <a:off x="-228600" y="14040"/>
            <a:ext cx="1059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所示，小明从家到达学校要穿过一个居民小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区的道路均是正南或正东方向小明走下面哪条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到达学校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76"/>
          <p:cNvSpPr/>
          <p:nvPr/>
        </p:nvSpPr>
        <p:spPr>
          <a:xfrm>
            <a:off x="-236880" y="2126520"/>
            <a:ext cx="76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77"/>
          <p:cNvSpPr/>
          <p:nvPr/>
        </p:nvSpPr>
        <p:spPr>
          <a:xfrm flipH="1">
            <a:off x="53280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77"/>
          <p:cNvSpPr/>
          <p:nvPr/>
        </p:nvSpPr>
        <p:spPr>
          <a:xfrm flipH="1">
            <a:off x="37332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3"/>
          <p:cNvSpPr/>
          <p:nvPr/>
        </p:nvSpPr>
        <p:spPr>
          <a:xfrm>
            <a:off x="15840" y="289404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4"/>
          <p:cNvSpPr/>
          <p:nvPr/>
        </p:nvSpPr>
        <p:spPr>
          <a:xfrm>
            <a:off x="228600" y="51055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5"/>
          <p:cNvSpPr/>
          <p:nvPr/>
        </p:nvSpPr>
        <p:spPr>
          <a:xfrm>
            <a:off x="228600" y="44197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56"/>
          <p:cNvSpPr/>
          <p:nvPr/>
        </p:nvSpPr>
        <p:spPr>
          <a:xfrm>
            <a:off x="228600" y="37339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7"/>
          <p:cNvSpPr/>
          <p:nvPr/>
        </p:nvSpPr>
        <p:spPr>
          <a:xfrm>
            <a:off x="228600" y="29718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58"/>
          <p:cNvSpPr/>
          <p:nvPr/>
        </p:nvSpPr>
        <p:spPr>
          <a:xfrm>
            <a:off x="2662200" y="83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4"/>
          <p:cNvSpPr/>
          <p:nvPr/>
        </p:nvSpPr>
        <p:spPr>
          <a:xfrm>
            <a:off x="468360" y="1047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腰梯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上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下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底角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5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建立适当的直角坐标系，求各顶点的坐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5437080" y="2924280"/>
            <a:ext cx="2880000" cy="1008000"/>
            <a:chOff x="5437080" y="2924280"/>
            <a:chExt cx="2880000" cy="1008000"/>
          </a:xfrm>
        </p:grpSpPr>
        <p:sp>
          <p:nvSpPr>
            <p:cNvPr id="876" name="Line 5"/>
            <p:cNvSpPr/>
            <p:nvPr/>
          </p:nvSpPr>
          <p:spPr>
            <a:xfrm>
              <a:off x="5437080" y="3932280"/>
              <a:ext cx="288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6"/>
            <p:cNvSpPr/>
            <p:nvPr/>
          </p:nvSpPr>
          <p:spPr>
            <a:xfrm>
              <a:off x="6085080" y="292428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7"/>
            <p:cNvSpPr/>
            <p:nvPr/>
          </p:nvSpPr>
          <p:spPr>
            <a:xfrm flipH="1">
              <a:off x="5437080" y="2924280"/>
              <a:ext cx="64800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9"/>
            <p:cNvSpPr/>
            <p:nvPr/>
          </p:nvSpPr>
          <p:spPr>
            <a:xfrm>
              <a:off x="7524720" y="2924280"/>
              <a:ext cx="79236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11"/>
          <p:cNvSpPr/>
          <p:nvPr/>
        </p:nvSpPr>
        <p:spPr>
          <a:xfrm>
            <a:off x="536400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932360" y="3629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7597800" y="240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853272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5"/>
          <p:cNvSpPr/>
          <p:nvPr/>
        </p:nvSpPr>
        <p:spPr>
          <a:xfrm>
            <a:off x="5437080" y="3932280"/>
            <a:ext cx="3384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437080" y="1773000"/>
            <a:ext cx="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7"/>
          <p:cNvSpPr/>
          <p:nvPr/>
        </p:nvSpPr>
        <p:spPr>
          <a:xfrm flipH="1">
            <a:off x="5436720" y="2924280"/>
            <a:ext cx="64764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8"/>
          <p:cNvSpPr/>
          <p:nvPr/>
        </p:nvSpPr>
        <p:spPr>
          <a:xfrm>
            <a:off x="8101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9"/>
          <p:cNvSpPr/>
          <p:nvPr/>
        </p:nvSpPr>
        <p:spPr>
          <a:xfrm>
            <a:off x="507672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0"/>
          <p:cNvSpPr/>
          <p:nvPr/>
        </p:nvSpPr>
        <p:spPr>
          <a:xfrm>
            <a:off x="108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1"/>
          <p:cNvSpPr/>
          <p:nvPr/>
        </p:nvSpPr>
        <p:spPr>
          <a:xfrm>
            <a:off x="539640" y="458460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5076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3"/>
          <p:cNvSpPr/>
          <p:nvPr/>
        </p:nvSpPr>
        <p:spPr>
          <a:xfrm>
            <a:off x="608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5869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5"/>
          <p:cNvSpPr/>
          <p:nvPr/>
        </p:nvSpPr>
        <p:spPr>
          <a:xfrm>
            <a:off x="7308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6"/>
          <p:cNvSpPr/>
          <p:nvPr/>
        </p:nvSpPr>
        <p:spPr>
          <a:xfrm>
            <a:off x="752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7"/>
          <p:cNvSpPr/>
          <p:nvPr/>
        </p:nvSpPr>
        <p:spPr>
          <a:xfrm>
            <a:off x="2409840" y="4584600"/>
            <a:ext cx="18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8"/>
          <p:cNvSpPr/>
          <p:nvPr/>
        </p:nvSpPr>
        <p:spPr>
          <a:xfrm>
            <a:off x="4284720" y="458136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9"/>
          <p:cNvSpPr/>
          <p:nvPr/>
        </p:nvSpPr>
        <p:spPr>
          <a:xfrm>
            <a:off x="6156360" y="45846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0"/>
          <p:cNvSpPr/>
          <p:nvPr/>
        </p:nvSpPr>
        <p:spPr>
          <a:xfrm>
            <a:off x="289080" y="278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直角坐标系如图所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1"/>
          <p:cNvSpPr/>
          <p:nvPr/>
        </p:nvSpPr>
        <p:spPr>
          <a:xfrm>
            <a:off x="395280" y="3716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顶点坐标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2"/>
          <p:cNvSpPr/>
          <p:nvPr/>
        </p:nvSpPr>
        <p:spPr>
          <a:xfrm>
            <a:off x="179280" y="5516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各顶点坐标分别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3"/>
          <p:cNvSpPr/>
          <p:nvPr/>
        </p:nvSpPr>
        <p:spPr>
          <a:xfrm>
            <a:off x="5435640" y="2924280"/>
            <a:ext cx="2089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34"/>
          <p:cNvSpPr/>
          <p:nvPr/>
        </p:nvSpPr>
        <p:spPr>
          <a:xfrm>
            <a:off x="5364000" y="386064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35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4"/>
          <p:cNvSpPr/>
          <p:nvPr/>
        </p:nvSpPr>
        <p:spPr>
          <a:xfrm>
            <a:off x="5068800" y="32148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4"/>
          <p:cNvSpPr/>
          <p:nvPr/>
        </p:nvSpPr>
        <p:spPr>
          <a:xfrm>
            <a:off x="6572160" y="3857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56:33Z</dcterms:created>
  <dc:creator/>
  <dc:description/>
  <dc:language>en-US</dc:language>
  <cp:lastModifiedBy/>
  <dcterms:modified xsi:type="dcterms:W3CDTF">2015-04-08T11:56:38Z</dcterms:modified>
  <cp:revision>1</cp:revision>
  <dc:subject/>
  <dc:title/>
</cp:coreProperties>
</file>